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E5EB-F036-46EA-9794-659DBB43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4E3-B746-40FC-829F-8B50E06E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848-1EBC-4CA9-8B91-8FE85D9C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C23-2174-48FF-AFCB-BA1A550F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8CE7-3AEF-44B0-9961-15E4241F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455F-1F23-4591-80B2-25E4347F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8DA4-861D-4C9C-BF34-53D477D1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16C2-84BD-49B0-92C3-697E9C6E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4DC7-9006-43CC-8FB6-B59FA2BF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C51F-70BF-480D-AF0A-DDAF6789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1776-6BBE-4FEC-A5C8-363B4947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A0C-24C6-41E8-B4E3-0714A729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2D03-6307-4A70-AAC9-A3348B75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58AD-9F36-4784-9491-83B6FB55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F951-F1AC-4395-B00B-744071DE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116E-9714-46B2-8419-1428750E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FC8F-A335-4F6C-A1EC-C3E0CC4C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FD1-96BA-43FF-A126-96A61251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0CC-8300-4946-8344-0C1BA73B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AF4D-876F-43F7-B52D-7C883A5E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495-948D-45F9-8F72-CE1A5656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466-EA31-4A2E-9C64-D90E5DDA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E38E-CA7F-4AB8-95D8-BD7321DD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507A-8D02-4E52-9E16-F4FD4A0B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E2EF-F5FF-46AF-B20B-E489A445F5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0842-FE31-4445-AC68-E1D8612138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6699"/>
                </a:solidFill>
                <a:latin typeface="Old English Text MT"/>
              </a:rPr>
              <a:t>Madagascar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2131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765840" y="0"/>
            <a:ext cx="2378160" cy="2971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2286000"/>
            <a:ext cx="3809880" cy="2550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762600" y="3124080"/>
            <a:ext cx="2381400" cy="2714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Old English Text MT"/>
              </a:rPr>
              <a:t>The History of Madagasc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Old English Text MT"/>
              </a:rPr>
              <a:t>-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Old English Text MT"/>
              </a:rPr>
              <a:t>Madagascar split from Africa 160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Old English Text MT"/>
              </a:rPr>
              <a:t>-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Old English Text MT"/>
              </a:rPr>
              <a:t>Madagascar became a French colony in 1896, but regained independence in 19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Old English Text MT"/>
              </a:rPr>
              <a:t>-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Old English Text MT"/>
              </a:rPr>
              <a:t>Used to be called: Malagasy re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4411800"/>
            <a:ext cx="4343400" cy="2446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2b2b2"/>
                </a:solidFill>
                <a:latin typeface="Old English Text MT"/>
              </a:rPr>
              <a:t>Imports and Exports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3200" spc="-1" strike="noStrike">
                <a:solidFill>
                  <a:srgbClr val="ffffff"/>
                </a:solidFill>
                <a:latin typeface="Old English Text MT"/>
              </a:rPr>
              <a:t>Madagascar exports things like animals, oils and fats, and electrical equipm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Old English Text MT"/>
              </a:rPr>
              <a:t>-  they usually import spices, pearls and gems, perfumes, and crude vegetable material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3809880"/>
            <a:ext cx="4114800" cy="2390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Old English Text MT"/>
              </a:rPr>
              <a:t>Political environ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Old English Text MT"/>
              </a:rPr>
              <a:t>Re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Old English Text MT"/>
              </a:rPr>
              <a:t>Independence day: June 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Old English Text MT"/>
              </a:rPr>
              <a:t>Language: Malaga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Old English Text MT"/>
              </a:rPr>
              <a:t>Capital: Antananariv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Old English Text MT"/>
              </a:rPr>
              <a:t>This is Madagascar’s map </a:t>
            </a:r>
            <a:br>
              <a:rPr sz="4400"/>
            </a:br>
            <a:r>
              <a:rPr b="1" i="1" lang="en-US" sz="4400" spc="-1" strike="noStrike">
                <a:solidFill>
                  <a:srgbClr val="b2b2b2"/>
                </a:solidFill>
                <a:latin typeface="Old English Text MT"/>
              </a:rPr>
              <a:t>Madagascar is an isla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3089520" cy="3471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477120" y="2666880"/>
            <a:ext cx="2514600" cy="2446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34883E-007 C -0.00504 -0.00301 -0.01042 -0.00601 -0.01528 -0.00925 C -0.0184 -0.01133 -0.02031 -0.01596 -0.02361 -0.01712 C -0.02743 -0.0185 -0.03142 -0.01827 -0.03542 -0.01874 C -0.04115 -0.02406 -0.0474 -0.0266 -0.05417 -0.02822 C -0.06649 -0.03886 -0.07656 -0.03354 -0.09427 -0.03447 C -0.10903 -0.03285 -0.12413 -0.03308 -0.13889 -0.03123 C -0.14444 -0.03053 -0.15191 -0.02591 -0.15764 -0.02498 C -0.16302 -0.02059 -0.16858 -0.02059 -0.17413 -0.01712 C -0.18247 -0.0118 -0.1901 -0.00393 -0.19896 4.34883E-007 C -0.20868 0.00879 -0.21059 0.01064 -0.2224 0.01249 C -0.22691 0.01874 -0.23368 0.02406 -0.2401 0.0266 C -0.24149 0.02799 -0.24601 0.03123 -0.24601 0.03447 C -0.24601 0.03979 -0.24115 0.0428 -0.23889 0.04557 C -0.23455 0.05066 -0.23194 0.05691 -0.22708 0.0613 C -0.23021 0.07773 -0.22674 0.09716 -0.2342 0.11127 C -0.23733 0.127 -0.23281 0.14226 -0.24358 0.15221 C -0.24618 0.16216 -0.24271 0.15244 -0.24826 0.15846 C -0.24931 0.15961 -0.24965 0.16193 -0.25069 0.16308 C -0.25712 0.17072 -0.25677 0.17002 -0.2625 0.17257 C -0.26754 0.17927 -0.27118 0.18043 -0.27778 0.18344 C -0.28403 0.18298 -0.29028 0.18251 -0.29653 0.18182 C -0.30278 0.18113 -0.31528 0.17881 -0.31528 0.17881 C -0.32135 0.17349 -0.31875 0.17581 -0.32708 0.16771 C -0.32865 0.16609 -0.33021 0.16447 -0.33177 0.16308 C -0.33299 0.16193 -0.33542 0.15984 -0.33542 0.15984 C -0.34219 0.14782 -0.34844 0.1344 -0.3566 0.12399 C -0.36684 0.09461 -0.36337 0.06893 -0.34358 0.05968 C -0.31771 0.06176 -0.3099 0.05876 -0.29531 0.08628 C -0.29132 0.10386 -0.2901 0.12422 -0.3 0.1381 C -0.30226 0.14689 -0.29931 0.13949 -0.30486 0.14435 C -0.32257 0.15984 -0.32604 0.15522 -0.35295 0.15846 C -0.35538 0.15869 -0.35764 0.15938 -0.36007 0.15984 C -0.35747 0.161 -0.35399 0.16239 -0.35191 0.1647 C -0.34705 0.17002 -0.35191 0.1691 -0.34705 0.17557 C -0.34514 0.17812 -0.34219 0.17835 -0.3401 0.18043 C -0.33819 0.18783 -0.33524 0.18691 -0.33073 0.1913 C -0.32934 0.19269 -0.32847 0.19454 -0.32708 0.19593 C -0.32483 0.19824 -0.3224 0.20009 -0.32014 0.20218 C -0.31563 0.20634 -0.3066 0.20796 -0.30122 0.21004 C -0.29444 0.20865 -0.28906 0.20865 -0.28247 0.21166 C -0.25035 0.2112 -0.21806 0.21143 -0.18594 0.21004 C -0.18229 0.20981 -0.17535 0.20703 -0.17535 0.20703 C -0.16962 0.2031 -0.16372 0.20194 -0.15764 0.19917 C -0.15035 0.19269 -0.14566 0.18922 -0.13767 0.18506 C -0.13611 0.18413 -0.13455 0.18298 -0.13299 0.18182 C -0.13177 0.18089 -0.13073 0.17951 -0.12951 0.17881 C -0.12517 0.17627 -0.1217 0.17604 -0.11771 0.17257 C -0.11441 0.16609 -0.11146 0.16725 -0.10712 0.16146 C -0.09965 0.15129 -0.11059 0.16193 -0.10122 0.1536 C -0.09844 0.14805 -0.09601 0.14782 -0.09184 0.14435 C -0.08854 0.13787 -0.08507 0.13278 -0.08004 0.12862 C -0.07656 0.12214 -0.07205 0.11589 -0.06719 0.11127 C -0.06163 0.10086 -0.05295 0.09345 -0.04705 0.08305 C -0.04583 0.07796 -0.04462 0.07287 -0.04358 0.06755 C -0.04254 0.05159 -0.04635 0.03539 -0.03646 0.0266 C -0.0316 0.01712 -0.02743 0.00717 -0.01892 0.00324 C -0.01354 -0.00393 -0.01476 -0.00463 -0.00365 4.34883E-007 C -0.00208 0.0007 -0.00139 0.0037 5.55556E-007 0.00486 C 0.00104 0.00578 0.00347 0.00787 0.00347 0.00625 C 0.00347 0.0037 0.00121 0.00208 5.55556E-007 4.34883E-007 Z">
                                      <p:cBhvr>
                                        <p:cTn id="18" dur="3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8:04:47Z</dcterms:created>
  <dc:creator>alejandrogandaria</dc:creator>
  <dc:description/>
  <dc:language>en-US</dc:language>
  <cp:lastModifiedBy>alejandrogandaria</cp:lastModifiedBy>
  <dcterms:modified xsi:type="dcterms:W3CDTF">2008-11-07T19:26:48Z</dcterms:modified>
  <cp:revision>7</cp:revision>
  <dc:subject/>
  <dc:title>Madagascar</dc:title>
</cp:coreProperties>
</file>